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9043-C7BA-42D9-9592-050BEB3BD7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CB92F-2613-400D-96D1-FBADF74B8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7B3ED-9C98-4988-8E74-494419CC4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7B736-4786-4752-B253-74E7FEAF7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0678C-A1F6-405F-A4D2-992D2503E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379F0-7590-4F0B-BEDF-8B3BEC736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E6687-6279-4FEF-93F1-F96FE9962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28ADD-480C-4924-BF0E-CF1195C78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AF9C5-0E8A-4E2B-9ECB-8F980CAAA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D35E5-C41D-444B-BA36-C5AE02A1D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937C1-F48D-49B9-8795-2EDB02313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8C6E7-432E-4EC3-9C6F-3A6899B08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5280C-36CF-468B-88F0-CE818B91A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3A9C9-ACAD-4471-9F5D-7A98F17CA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CA605-FEBF-496F-84FE-4120C6B90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25E78-0E76-4511-AD92-14D56F19B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3F5DB-10C6-45A4-8A6F-BCFBC7AE5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308A9-BFB8-412A-9728-FAF1D11EA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67E00-E6B8-430A-8D19-CE9A57ED3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6ED3F-65E4-442E-B0FA-45142A331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4BF20-C2E6-483A-A691-9AFE80726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37519-D073-4FB3-8084-540B81411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D720E-C173-49C4-AC68-C8254E1B5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D2A3E-E4EC-4349-9115-8D4B32852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3476A-2115-4C4D-A6B7-1582D6080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3374-2C69-443C-8F74-12244DF3468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4792-04A1-4666-A888-6C68CAE9205E}"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RomaK</cp:lastModifiedBy>
  <dcterms:modified xsi:type="dcterms:W3CDTF">2015-09-04T09:35:35Z</dcterms:modified>
  <cp:revision>9</cp:revision>
  <dc:subject/>
  <dc:title>What is civilization?</dc:title>
</cp:coreProperties>
</file>